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19240" y="2565000"/>
            <a:ext cx="924552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ccdf2"/>
                </a:solidFill>
                <a:latin typeface="Party LET"/>
              </a:rPr>
              <a:t>Word Work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79560" y="2120400"/>
            <a:ext cx="9245520" cy="44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fbbfe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39880" y="685800"/>
            <a:ext cx="924552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6c7d9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879560" y="327636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d1cf"/>
                </a:solidFill>
                <a:latin typeface="Savoye LET"/>
              </a:rPr>
              <a:t>Words that have opposite meaning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61f7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n antonym for subtrac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Minu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Delet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Ad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D. Multipl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2" name=""/>
          <p:cNvSpPr/>
          <p:nvPr/>
        </p:nvSpPr>
        <p:spPr>
          <a:xfrm>
            <a:off x="2362320" y="5194440"/>
            <a:ext cx="165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1f67"/>
                </a:solidFill>
                <a:latin typeface="Savoye LET"/>
                <a:ea typeface="Savoye LET"/>
              </a:rPr>
              <a:t>C. Add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6464160" y="3745080"/>
            <a:ext cx="321804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Which word is a antonym for sou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A. Swee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B. Bitte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C. Tar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0" y="3492360"/>
            <a:ext cx="198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00af"/>
                </a:solidFill>
                <a:latin typeface="Savoye LET"/>
                <a:ea typeface="Savoye LET"/>
              </a:rPr>
              <a:t>A. Sweet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7429680" y="3911760"/>
            <a:ext cx="295884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1920" y="2895120"/>
            <a:ext cx="92455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Party LET"/>
              </a:rPr>
              <a:t>Homophone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f37d"/>
                </a:solidFill>
                <a:latin typeface="Party LET"/>
              </a:rPr>
              <a:t>Homophones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cab"/>
                </a:solidFill>
                <a:latin typeface="Savoye LET"/>
              </a:rPr>
              <a:t>Words that sound the same but have different meanings and spellings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dbcd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My grandma is my favorite _____ for dinner during the holidays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A. gues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B. guesse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3" name=""/>
          <p:cNvSpPr/>
          <p:nvPr/>
        </p:nvSpPr>
        <p:spPr>
          <a:xfrm>
            <a:off x="6667920" y="2584440"/>
            <a:ext cx="1677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7ccfc"/>
                </a:solidFill>
                <a:latin typeface="Savoye LET"/>
                <a:ea typeface="Savoye LET"/>
              </a:rPr>
              <a:t>guest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438960" y="3886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b66eff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The butterfly drank the nectar from the __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A. flou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B. flowe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7" name=""/>
          <p:cNvSpPr/>
          <p:nvPr/>
        </p:nvSpPr>
        <p:spPr>
          <a:xfrm>
            <a:off x="8568720" y="2647800"/>
            <a:ext cx="188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eef3"/>
                </a:solidFill>
                <a:latin typeface="Savoye LET"/>
                <a:ea typeface="Savoye LET"/>
              </a:rPr>
              <a:t>flower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175520" y="3995640"/>
            <a:ext cx="234936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3ff98"/>
                </a:solidFill>
                <a:latin typeface="Party LET"/>
              </a:rPr>
              <a:t>Multiple Meaning Words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8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de9f2"/>
                </a:solidFill>
                <a:latin typeface="Party LET"/>
              </a:rPr>
              <a:t>What is a multiple meaning word?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082960" y="3403440"/>
            <a:ext cx="9245520" cy="474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Words that have more than one meaning. 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The meaning of the word depends upon how it is used in the sentenc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082960" y="774720"/>
            <a:ext cx="924552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dffb0"/>
                </a:solidFill>
                <a:latin typeface="Party LET"/>
              </a:rPr>
              <a:t>Try some Multiple Meaning Words</a:t>
            </a:r>
            <a:endParaRPr b="0" lang="en-US" sz="72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082960" y="3060720"/>
            <a:ext cx="9245520" cy="57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Name the word that fits best in both blank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The boy ran around the 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A _____ is equal to 3 feet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A. An inch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B. Poo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1b9"/>
                </a:solidFill>
                <a:latin typeface="Savoye LET"/>
              </a:rPr>
              <a:t>C. Trac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1b9"/>
                </a:solidFill>
                <a:latin typeface="Savoye LET"/>
              </a:rPr>
              <a:t>D. Yar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1" name=""/>
          <p:cNvSpPr/>
          <p:nvPr/>
        </p:nvSpPr>
        <p:spPr>
          <a:xfrm>
            <a:off x="1905120" y="8242200"/>
            <a:ext cx="30733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b132"/>
                </a:solidFill>
                <a:latin typeface="Savoye LET"/>
                <a:ea typeface="Savoye LET"/>
              </a:rPr>
              <a:t>D. Yard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629480" y="5702400"/>
            <a:ext cx="363528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a83"/>
                </a:solidFill>
                <a:latin typeface="Party LET"/>
              </a:rPr>
              <a:t>Try Again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66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Red is my favorite ___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Mike likes to ____on the walls when his mom isn’t looking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A. Soda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B.Colo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C. Draw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7264440" y="6540480"/>
            <a:ext cx="3073320" cy="1677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2197080" y="6807240"/>
            <a:ext cx="1917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6133e"/>
                </a:solidFill>
                <a:latin typeface="Savoye LET"/>
                <a:ea typeface="Savoye LET"/>
              </a:rPr>
              <a:t>B.Color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79560" y="3683160"/>
            <a:ext cx="924552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e6f37d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adbfe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879560" y="347940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adbfe"/>
                </a:solidFill>
                <a:latin typeface="Savoye LET"/>
              </a:rPr>
              <a:t>Words that have similar meanings</a:t>
            </a:r>
            <a:r>
              <a:rPr b="0" lang="en-US" sz="7200" spc="-1" strike="noStrike">
                <a:solidFill>
                  <a:srgbClr val="000000"/>
                </a:solidFill>
                <a:latin typeface="Savoye LET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b00a4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gla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Happ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Friendl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Sa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D. Awak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2" name=""/>
          <p:cNvSpPr/>
          <p:nvPr/>
        </p:nvSpPr>
        <p:spPr>
          <a:xfrm>
            <a:off x="2080440" y="3524040"/>
            <a:ext cx="267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a00e6"/>
                </a:solidFill>
                <a:latin typeface="Savoye LET"/>
                <a:ea typeface="Savoye LET"/>
              </a:rPr>
              <a:t>A. Happy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7721640" y="3936960"/>
            <a:ext cx="30495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effb1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littl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Larg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Tin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Hug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D.Gigantic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6" name=""/>
          <p:cNvSpPr/>
          <p:nvPr/>
        </p:nvSpPr>
        <p:spPr>
          <a:xfrm>
            <a:off x="2324160" y="4330800"/>
            <a:ext cx="16509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194ff"/>
                </a:solidFill>
                <a:latin typeface="Savoye LET"/>
                <a:ea typeface="Savoye LET"/>
              </a:rPr>
              <a:t>B. Tiny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